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AFB8-30F6-44F9-8CD7-2862C9EB1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F8F3-C195-40A0-B4C1-10CC50ED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F6EF-598C-4493-B58E-AC0A1E60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DEE0-712A-4EB7-8140-14C1FB11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4F02-3E12-4065-BF27-8B610C78C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B9AA-FBCE-44B5-94E0-E9035D2E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CC3F-EA94-443D-BF8E-9DE5FBFD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B24D-DC58-4DF5-9A3D-731883E9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58C8-63DE-4419-A4CE-ED597073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32BA-3E50-44F9-AE94-B422880B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33B8-859A-4985-A637-12674811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C82F-4667-4395-9D3C-F48CD558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1A2B-7ADA-48FA-B7A5-81CB465E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CA99-962E-4C38-B388-20FEA879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ECBA-B7A9-4289-B3EE-0EF4EB44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5874-A2B5-4A72-ACCD-69F06194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7BB7-4286-4E99-BFE9-2CBCDF5E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CFE0-40B3-4C41-B7EC-864EBF5A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5F9F-45E8-45E9-9158-27F3A529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F374-AC45-4256-B8E1-84304326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4F76-BFD5-4F3A-8C7E-84A805FB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5E69-3040-4BD8-A3F9-ECFE2B85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6838-031A-4115-B212-2926F6B2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AC31-FB92-4810-A356-772D6959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33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cc66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9BCA-4E24-4FD4-A81A-3B53EC92A6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cc66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6013-3776-418F-B1D2-900CEE4B14EA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We_Can_Do_It!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Women’s Role in WWI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09680" y="2819160"/>
            <a:ext cx="563904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Olivia, Chloe, Lauren and Ascia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94" name="Picture 5" descr="250px-We_Can_Do_It%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3352680"/>
            <a:ext cx="2527560" cy="3276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dothejobheleftbehind"/>
          <p:cNvPicPr/>
          <p:nvPr/>
        </p:nvPicPr>
        <p:blipFill>
          <a:blip r:embed="rId3"/>
          <a:stretch/>
        </p:blipFill>
        <p:spPr>
          <a:xfrm>
            <a:off x="3581280" y="3352680"/>
            <a:ext cx="2136960" cy="3305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entury Gothic"/>
              </a:rPr>
              <a:t>Georgia working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2" descr="http://cache1.asset-cache.net/xc/50622757.jpg?v=1&amp;c=IWSAsset&amp;k=2&amp;d=E41C9FE5C4AA0A145A8D52A8CADD9DF038C370530AF24A8A590EBAD4CF2A0D90B01E70F2B3269972"/>
          <p:cNvPicPr/>
          <p:nvPr/>
        </p:nvPicPr>
        <p:blipFill>
          <a:blip r:embed="rId1"/>
          <a:stretch/>
        </p:blipFill>
        <p:spPr>
          <a:xfrm>
            <a:off x="533520" y="1828800"/>
            <a:ext cx="3809880" cy="4686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smithcollegesquash.files.wordpress.com/2008/09/16_uncle_sam_and_rosie_the_riveter1.jpg"/>
          <p:cNvPicPr/>
          <p:nvPr/>
        </p:nvPicPr>
        <p:blipFill>
          <a:blip r:embed="rId2"/>
          <a:stretch/>
        </p:blipFill>
        <p:spPr>
          <a:xfrm>
            <a:off x="4800600" y="1828800"/>
            <a:ext cx="3749760" cy="4648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Robert returned ho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http://firstspecialserviceforce.net/Doris_and_Herb_atop_Mountain.jpg"/>
          <p:cNvPicPr/>
          <p:nvPr/>
        </p:nvPicPr>
        <p:blipFill>
          <a:blip r:embed="rId1"/>
          <a:stretch/>
        </p:blipFill>
        <p:spPr>
          <a:xfrm>
            <a:off x="533520" y="2133720"/>
            <a:ext cx="4244760" cy="4244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entury Gothic"/>
              </a:rPr>
              <a:t>Robert working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2" descr="http://www.navsea.navy.mil/nuwc/newport/ImageGallery/Men%20Working%20in%20Factory.%20WWII.jpg"/>
          <p:cNvPicPr/>
          <p:nvPr/>
        </p:nvPicPr>
        <p:blipFill>
          <a:blip r:embed="rId1"/>
          <a:stretch/>
        </p:blipFill>
        <p:spPr>
          <a:xfrm>
            <a:off x="380880" y="2209680"/>
            <a:ext cx="5257800" cy="4119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http://www1.sulekha.com/mstore/annaakka/albums/default/Danger%20men%20cooking.jpg"/>
          <p:cNvPicPr/>
          <p:nvPr/>
        </p:nvPicPr>
        <p:blipFill>
          <a:blip r:embed="rId2"/>
          <a:stretch/>
        </p:blipFill>
        <p:spPr>
          <a:xfrm>
            <a:off x="5867280" y="2209680"/>
            <a:ext cx="2857680" cy="411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Georgia and Robert Buckingh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2" descr="http://blogs.courant.com/itowns_mr/lovers.JPG"/>
          <p:cNvPicPr/>
          <p:nvPr/>
        </p:nvPicPr>
        <p:blipFill>
          <a:blip r:embed="rId1"/>
          <a:stretch/>
        </p:blipFill>
        <p:spPr>
          <a:xfrm>
            <a:off x="152280" y="1752480"/>
            <a:ext cx="3557880" cy="2667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http://www.uscg.mil/History/weboralhistory/bob_donna_wwii_wedding.jpg"/>
          <p:cNvPicPr/>
          <p:nvPr/>
        </p:nvPicPr>
        <p:blipFill>
          <a:blip r:embed="rId2"/>
          <a:stretch/>
        </p:blipFill>
        <p:spPr>
          <a:xfrm>
            <a:off x="762120" y="4191120"/>
            <a:ext cx="1944720" cy="2514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http://www.literacyla.org/Jack%20Smith%20and%20Denny%20Smith%20photo%20protrait%20-%20WWII.jpg"/>
          <p:cNvPicPr/>
          <p:nvPr/>
        </p:nvPicPr>
        <p:blipFill>
          <a:blip r:embed="rId3"/>
          <a:stretch/>
        </p:blipFill>
        <p:spPr>
          <a:xfrm>
            <a:off x="3505320" y="2590920"/>
            <a:ext cx="5149800" cy="4043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Death of the Buckinghams </a:t>
            </a:r>
            <a:r>
              <a:rPr b="0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2" descr="http://www.lafire.com/famous_fires/100110_LATimesFire/photos-LAFD-PhotoAlbumCollection_LATimesFire-10011910/100110_lafdphotoalbum_timesfire-2.gif"/>
          <p:cNvPicPr/>
          <p:nvPr/>
        </p:nvPicPr>
        <p:blipFill>
          <a:blip r:embed="rId1"/>
          <a:stretch/>
        </p:blipFill>
        <p:spPr>
          <a:xfrm>
            <a:off x="304920" y="1981080"/>
            <a:ext cx="4356000" cy="2895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http://www.lafire.com/famous_fires/100110_LATimesFire/100110_timesfire.gif"/>
          <p:cNvPicPr/>
          <p:nvPr/>
        </p:nvPicPr>
        <p:blipFill>
          <a:blip r:embed="rId2"/>
          <a:stretch/>
        </p:blipFill>
        <p:spPr>
          <a:xfrm>
            <a:off x="4038480" y="3352680"/>
            <a:ext cx="4410360" cy="3337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entury Gothic"/>
              </a:rPr>
              <a:t>Nurses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5" descr="1941_your_job"/>
          <p:cNvPicPr/>
          <p:nvPr/>
        </p:nvPicPr>
        <p:blipFill>
          <a:blip r:embed="rId1"/>
          <a:stretch/>
        </p:blipFill>
        <p:spPr>
          <a:xfrm>
            <a:off x="380880" y="1676520"/>
            <a:ext cx="3810240" cy="4838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nurseposter"/>
          <p:cNvPicPr/>
          <p:nvPr/>
        </p:nvPicPr>
        <p:blipFill>
          <a:blip r:embed="rId2"/>
          <a:stretch/>
        </p:blipFill>
        <p:spPr>
          <a:xfrm>
            <a:off x="4648320" y="1676520"/>
            <a:ext cx="3508200" cy="4800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entury Gothic"/>
              </a:rPr>
              <a:t>Tank drivers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4" descr="Panzer-Tank-300x300"/>
          <p:cNvPicPr/>
          <p:nvPr/>
        </p:nvPicPr>
        <p:blipFill>
          <a:blip r:embed="rId1"/>
          <a:stretch/>
        </p:blipFill>
        <p:spPr>
          <a:xfrm>
            <a:off x="380880" y="175248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ey101"/>
          <p:cNvPicPr/>
          <p:nvPr/>
        </p:nvPicPr>
        <p:blipFill>
          <a:blip r:embed="rId2"/>
          <a:stretch/>
        </p:blipFill>
        <p:spPr>
          <a:xfrm>
            <a:off x="5334120" y="1752480"/>
            <a:ext cx="3465360" cy="4572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Working in factories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7" descr="Women_drill_press_operators_in_1942"/>
          <p:cNvPicPr/>
          <p:nvPr/>
        </p:nvPicPr>
        <p:blipFill>
          <a:blip r:embed="rId1"/>
          <a:stretch/>
        </p:blipFill>
        <p:spPr>
          <a:xfrm>
            <a:off x="228600" y="1676520"/>
            <a:ext cx="4419720" cy="3528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1333"/>
          <p:cNvPicPr/>
          <p:nvPr/>
        </p:nvPicPr>
        <p:blipFill>
          <a:blip r:embed="rId2"/>
          <a:stretch/>
        </p:blipFill>
        <p:spPr>
          <a:xfrm>
            <a:off x="4648320" y="3200400"/>
            <a:ext cx="4267080" cy="3384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entury Gothic"/>
              </a:rPr>
              <a:t>Building ships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283447_f260"/>
          <p:cNvPicPr/>
          <p:nvPr/>
        </p:nvPicPr>
        <p:blipFill>
          <a:blip r:embed="rId1"/>
          <a:stretch/>
        </p:blipFill>
        <p:spPr>
          <a:xfrm>
            <a:off x="152280" y="1752480"/>
            <a:ext cx="4027680" cy="4724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2178436491_e6bf82f206_o"/>
          <p:cNvPicPr/>
          <p:nvPr/>
        </p:nvPicPr>
        <p:blipFill>
          <a:blip r:embed="rId2"/>
          <a:stretch/>
        </p:blipFill>
        <p:spPr>
          <a:xfrm>
            <a:off x="4648320" y="1600200"/>
            <a:ext cx="3962160" cy="4876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Mechanics/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ngineers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waaf-9_1485582i"/>
          <p:cNvPicPr/>
          <p:nvPr/>
        </p:nvPicPr>
        <p:blipFill>
          <a:blip r:embed="rId1"/>
          <a:stretch/>
        </p:blipFill>
        <p:spPr>
          <a:xfrm>
            <a:off x="533520" y="1752480"/>
            <a:ext cx="3732120" cy="4800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BTales_198805f"/>
          <p:cNvPicPr/>
          <p:nvPr/>
        </p:nvPicPr>
        <p:blipFill>
          <a:blip r:embed="rId2"/>
          <a:stretch/>
        </p:blipFill>
        <p:spPr>
          <a:xfrm>
            <a:off x="4724280" y="1752480"/>
            <a:ext cx="3694320" cy="4724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entury Gothic"/>
              </a:rPr>
              <a:t>Pilots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7" descr="female-air-force-engineering-test-pilots-63595cbbd36a4fdb_large"/>
          <p:cNvPicPr/>
          <p:nvPr/>
        </p:nvPicPr>
        <p:blipFill>
          <a:blip r:embed="rId1"/>
          <a:stretch/>
        </p:blipFill>
        <p:spPr>
          <a:xfrm>
            <a:off x="228600" y="3429000"/>
            <a:ext cx="4114800" cy="3124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018010"/>
          <p:cNvPicPr/>
          <p:nvPr/>
        </p:nvPicPr>
        <p:blipFill>
          <a:blip r:embed="rId2"/>
          <a:stretch/>
        </p:blipFill>
        <p:spPr>
          <a:xfrm>
            <a:off x="2133720" y="1523880"/>
            <a:ext cx="3504960" cy="237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i8_1499-11_b"/>
          <p:cNvPicPr/>
          <p:nvPr/>
        </p:nvPicPr>
        <p:blipFill>
          <a:blip r:embed="rId3"/>
          <a:stretch/>
        </p:blipFill>
        <p:spPr>
          <a:xfrm>
            <a:off x="5638680" y="1981080"/>
            <a:ext cx="3219480" cy="4648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Georgia Buckingh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5" descr="ww2"/>
          <p:cNvPicPr/>
          <p:nvPr/>
        </p:nvPicPr>
        <p:blipFill>
          <a:blip r:embed="rId1"/>
          <a:stretch/>
        </p:blipFill>
        <p:spPr>
          <a:xfrm>
            <a:off x="380880" y="1981080"/>
            <a:ext cx="4191120" cy="3345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women-working-wwii-438883-l"/>
          <p:cNvPicPr/>
          <p:nvPr/>
        </p:nvPicPr>
        <p:blipFill>
          <a:blip r:embed="rId2"/>
          <a:stretch/>
        </p:blipFill>
        <p:spPr>
          <a:xfrm>
            <a:off x="4191120" y="2743200"/>
            <a:ext cx="4762440" cy="3857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entury Gothic"/>
              </a:rPr>
              <a:t>Robert off to war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2" descr="http://mywarhistory.com/uploads/myWarPictures/470-Navy_men_.jpg"/>
          <p:cNvPicPr/>
          <p:nvPr/>
        </p:nvPicPr>
        <p:blipFill>
          <a:blip r:embed="rId1"/>
          <a:stretch/>
        </p:blipFill>
        <p:spPr>
          <a:xfrm>
            <a:off x="1600200" y="1905120"/>
            <a:ext cx="5715000" cy="4600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2:52:29Z</dcterms:created>
  <dc:creator>Information Technology</dc:creator>
  <dc:description/>
  <dc:language>en-US</dc:language>
  <cp:lastModifiedBy>Information Technology</cp:lastModifiedBy>
  <dcterms:modified xsi:type="dcterms:W3CDTF">2010-02-16T13:19:54Z</dcterms:modified>
  <cp:revision>9</cp:revision>
  <dc:subject/>
  <dc:title>Working Women in WWII</dc:title>
</cp:coreProperties>
</file>